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E7D3C79-D34F-4B73-8039-8FCCC9B11D22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AA3DF13-9D65-40B0-89A4-68129ADC088E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A67FC94-F0C1-4B63-9BAD-F4C47A1020D7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26520CF-B1E5-4789-86FD-FC1E59C06469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8D0B3F8-0F56-48F7-912B-8FB4DF1EC96B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74949B9-4646-4E6D-954B-4C89CDC731AE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E5CD699-3164-4A8B-B9BC-08D1DBABE074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785721E-C5FB-44AB-9200-64E86F70FDCB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F5EE46D-33F6-4D70-ACA2-075BE5BD34DC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3C9AE7-EDD0-49C6-B2EE-D3A90418C3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0D688A-F001-4499-AE3E-8B6F969AACAE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3879BC-2375-4B62-970A-CD2D22472CD6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6D4760-929A-4BD7-AE94-916D91B5AB3F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DD4231-8620-400D-A826-23BD2687F44A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849E03-9BA7-4AE2-84BF-8228A7BDB2B4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D5F70C-5F82-4CF4-94FF-64FEA1EEB8CD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2AB4AF-0A4A-44FE-A9A7-17F592A8596C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96F241-B8FB-41E3-A3E0-5F7600EEE21A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FB9661-20E8-4D8C-B1CB-A6D70A5BE1E1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DD5E3F-C6AE-4755-8E6F-1797D5C7C9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8499CB-76E6-4BCB-AC8F-21DBD53DA6B3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63A31BD-E91D-4C43-B457-2CE840B2494F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709563D-3730-483F-A1E6-D6112A2D1C37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D5AC226-FBD5-49EC-BFFA-CEC6A51B9106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CBD90C6-FA31-4F11-9D32-DB10C85AF030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5177862-3B27-42C2-9191-E40698383432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3A272E4-F244-43BE-9EC9-1CEB2AD5FFBC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4BA7A17-0739-4738-91AD-0756896A9540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3F09E7A-3D18-4081-A3E8-736B49299B0F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5CEAB81-879D-40AB-9F35-CEAF221F0B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3B3053-666B-4A54-9002-888E26457481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92D9A89-18C8-4B3D-9798-FB7CF0C26F13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1984B7C-1DA0-4985-AE58-921EEDF6ADD7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14BCB8F-7165-4EEA-8278-2DB667AF14D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5EE8C3-691E-4941-81B8-B6917063C1F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2F2CB4-6C60-474E-8A9E-04941FB1F36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19E3C1-C0E0-4091-97A9-1DB5EAC037F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CE7E72-D103-4498-8F5B-E312979C145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96510C-32E8-4E91-AF3D-52B5AC112C7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9D35A2-71D4-4221-9CAD-0D83127A37A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17517D-ADA5-4F3B-86B8-6005B4BC540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DED9F7-D76D-4174-AB4B-2765EA19BE8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281CC2-1703-4557-BC20-8C33914C36B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F2EF6D-8223-4D23-B899-B902B8E2932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B96A22-B84F-46FA-8B30-7E306B16DDAD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FBF5D4-FCD0-4722-9085-B64A5DD552A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F4BA6F-4CCB-4C55-97B2-CE552884A6B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745F11-FE4A-4D71-BF07-6DEC25D7A2B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087D87-A1B5-4A5D-B78A-765C8BF3983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71707A-9961-4842-92D8-6272AE94A3C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31F226-8B3E-4DA8-9EDA-A2CA00C9555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03FD28-1554-4AD8-8A1C-6A73FE0FFAA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09774F-66F8-4F55-9DA1-625F984DC9F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5CADFD-6A97-458D-89C1-05B3A86E70B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0F594C-B889-4D2F-AC30-8E5C73DD202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50EDFC-F5BB-4F9C-AD7F-F2A873AF0E2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63ADBF-6CAC-4438-9A72-077A49EAD839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13A1F-3DFD-4AA0-AD32-6985DF3C6650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3A3F4-368B-4629-BC8D-45BAA6F69E79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4F7F7-9D5A-4EA0-95C8-EA36D95B7F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588C0-75B1-48DA-81E0-216441A514B3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A13F5-7E10-4075-8705-0A6DF4A5768C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368D6-C625-4BBC-803B-E0FED9D9F42F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ED553-40FC-4920-BAA6-6BF65333742D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A55FF-554D-4371-8216-277106BE70D9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DF512-BF1D-4468-B3D0-A3CB00233FF5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4F637-8560-4886-B964-DDB48A2BED19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D69A0-27AE-4D9A-ADF5-6F4433057B82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B7201-1C05-48BE-8365-BCBAA49F0556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F319DE1-266C-4027-A6E9-A827EA4DAE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E1142FE-89F4-4B68-9909-0B9639B75196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1F91CB5-0191-43E1-9435-E5EB6A45D388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C866500-4EFF-4DA3-981E-42910A775BF5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276D23-F2CE-4530-8DAB-35C1C5427669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8699A5-C754-4786-BEDB-4A3409A0E99D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953DABD-72A1-4F2D-BD5C-51983C8C0FF8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1437D8C-0BDC-41C5-ABA2-3B30B07F3372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36E1958-DAE5-498E-9C9B-0EC872DBA304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6627F53-F6AC-4E41-B999-FB1DBD128742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F5EA3CB-F7E6-4E56-BB47-A972FEF866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D3A2A83-164A-4096-8A43-1761C4F096D8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7BC6579-3C8F-4440-8873-E75FE589C1A8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574FD4C-51F2-4503-9946-D2725904E9A1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08FF1E9-E468-4880-9A5F-5C1D032B1EF3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2B02A43-3CDD-43BD-A496-36EF7F073A41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0D6EEEF-3BB9-4ADA-9EAD-FBA7D91A9EF0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51F5272-4EEB-4B66-8D08-88CC65278272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3FD9FBA-4E51-4773-8590-377D5E0DA179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F4B4D59-D72D-4328-A531-43ED7E132E9C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BD9420D-624F-484D-BC40-FBA1AA71A4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9806172-6D98-4144-9B8E-4685D9774D58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D33B257-EC49-4046-8943-7F7435C3A4AA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6A4E24B-1FDB-4D04-AD82-8F0ADB70C5B7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D893B7-F04D-491C-9A7B-D52FF65BA5ED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F45D83-1DA1-4DFF-8B13-F35552B0E199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4C7D17-F2C7-4BDB-A0B6-0B7FB43A132D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E30771-EC45-49F1-B71A-F9D54158C294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7D39F4-EC14-4F4E-B0E9-98B3809F29FD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09A0D9-FC32-4CB9-B338-8797FCBC4FF2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2A5C9A-8D5C-4266-BF09-2DC1A6FE13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7C933B-42AC-4D8A-8E32-159F8B428F6E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A25FC9-D954-4070-A727-BC746FD3398C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BBAF8A-3355-4F3D-817D-A7FE899AA8D6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1EF414-AC46-43A3-80EF-3F3934F88160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8B6146-4178-43F4-90DB-138DFB99578D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20D4255-CA56-42A7-B16E-9B6072660A63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2F63385-F7D9-48AC-AA27-CE743103BFF2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5C8E582-8238-4C13-94EC-3ECE20EA1FA3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E5BF3ED-D3CD-4D33-A453-11E3982D2525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50AEAD3-513C-4D86-B2F9-40BA421722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4AFBF93-3A1B-4B1F-AC97-F1623A65E0DE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1D0047E-9286-4456-A0AD-D9762F50E769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7D2A2FC-65CE-4D2A-8F8F-2F68E0CF27D0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113E38E-07A7-4594-9D46-1743C4CAC4AC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9467671-4621-42BE-963E-89D9CA33261E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0E6B079-DFC6-458A-ABAF-0034E922CAC4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9D08791-0F97-465D-ACD8-2A98CE866119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99279D8-820D-4EC3-8B99-4E90D83BBF4D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02987D8-8B43-4315-901D-97D315C7A604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A456931-3343-4656-9D3B-6319B12FFB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46"/>
          <p:cNvSpPr/>
          <p:nvPr/>
        </p:nvSpPr>
        <p:spPr>
          <a:xfrm>
            <a:off x="0" y="6578640"/>
            <a:ext cx="9144000" cy="3049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Rectangle 8"/>
          <p:cNvSpPr/>
          <p:nvPr/>
        </p:nvSpPr>
        <p:spPr>
          <a:xfrm>
            <a:off x="0" y="0"/>
            <a:ext cx="9313920" cy="8301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" name="Picture 8" descr=""/>
          <p:cNvPicPr/>
          <p:nvPr/>
        </p:nvPicPr>
        <p:blipFill>
          <a:blip r:embed="rId2"/>
          <a:srcRect l="0" t="0" r="0" b="20622"/>
          <a:stretch/>
        </p:blipFill>
        <p:spPr>
          <a:xfrm>
            <a:off x="-227160" y="-19080"/>
            <a:ext cx="1089000" cy="85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1046"/>
          <p:cNvSpPr/>
          <p:nvPr/>
        </p:nvSpPr>
        <p:spPr>
          <a:xfrm>
            <a:off x="0" y="6578640"/>
            <a:ext cx="9144000" cy="3049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0" name="Rectangle 8"/>
          <p:cNvSpPr/>
          <p:nvPr/>
        </p:nvSpPr>
        <p:spPr>
          <a:xfrm>
            <a:off x="0" y="0"/>
            <a:ext cx="9313920" cy="8301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71" name="Picture 8" descr=""/>
          <p:cNvPicPr/>
          <p:nvPr/>
        </p:nvPicPr>
        <p:blipFill>
          <a:blip r:embed="rId2"/>
          <a:srcRect l="0" t="0" r="0" b="20622"/>
          <a:stretch/>
        </p:blipFill>
        <p:spPr>
          <a:xfrm>
            <a:off x="-227160" y="-19080"/>
            <a:ext cx="1089000" cy="851040"/>
          </a:xfrm>
          <a:prstGeom prst="rect">
            <a:avLst/>
          </a:prstGeom>
          <a:ln w="0">
            <a:noFill/>
          </a:ln>
        </p:spPr>
      </p:pic>
      <p:sp>
        <p:nvSpPr>
          <p:cNvPr id="372" name="PlaceHolder 1"/>
          <p:cNvSpPr>
            <a:spLocks noGrp="1"/>
          </p:cNvSpPr>
          <p:nvPr>
            <p:ph type="ftr" idx="17"/>
          </p:nvPr>
        </p:nvSpPr>
        <p:spPr>
          <a:xfrm>
            <a:off x="12600" y="6590880"/>
            <a:ext cx="5562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azione test ammissione facoltà architettura e design a.a.06707presentazione test di ammissione alle facol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à di architettura – a.a.2005/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sldNum" idx="18"/>
          </p:nvPr>
        </p:nvSpPr>
        <p:spPr>
          <a:xfrm>
            <a:off x="6972120" y="6400800"/>
            <a:ext cx="19047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B632A-D380-44E4-A22F-6A6796FA1163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1046"/>
          <p:cNvSpPr/>
          <p:nvPr/>
        </p:nvSpPr>
        <p:spPr>
          <a:xfrm>
            <a:off x="0" y="6578640"/>
            <a:ext cx="9144000" cy="3049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1" name="Rectangle 8"/>
          <p:cNvSpPr/>
          <p:nvPr/>
        </p:nvSpPr>
        <p:spPr>
          <a:xfrm>
            <a:off x="0" y="0"/>
            <a:ext cx="9313920" cy="8301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12" name="Picture 8" descr=""/>
          <p:cNvPicPr/>
          <p:nvPr/>
        </p:nvPicPr>
        <p:blipFill>
          <a:blip r:embed="rId2"/>
          <a:srcRect l="0" t="0" r="0" b="20622"/>
          <a:stretch/>
        </p:blipFill>
        <p:spPr>
          <a:xfrm>
            <a:off x="-227160" y="-19080"/>
            <a:ext cx="1089000" cy="851040"/>
          </a:xfrm>
          <a:prstGeom prst="rect">
            <a:avLst/>
          </a:prstGeom>
          <a:ln w="0">
            <a:noFill/>
          </a:ln>
        </p:spPr>
      </p:pic>
      <p:sp>
        <p:nvSpPr>
          <p:cNvPr id="413" name="PlaceHolder 1"/>
          <p:cNvSpPr>
            <a:spLocks noGrp="1"/>
          </p:cNvSpPr>
          <p:nvPr>
            <p:ph type="ftr" idx="19"/>
          </p:nvPr>
        </p:nvSpPr>
        <p:spPr>
          <a:xfrm>
            <a:off x="12600" y="6590880"/>
            <a:ext cx="5562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sentazione test ammissione facoltà architettura e design a.a.06707presentazione test di ammissione alle facolt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à di architettura – a.a.2005/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ldNum" idx="20"/>
          </p:nvPr>
        </p:nvSpPr>
        <p:spPr>
          <a:xfrm>
            <a:off x="6972120" y="6400800"/>
            <a:ext cx="19047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490A3-C4B2-4C71-A7E8-FBA42CC836A6}" type="slidenum">
              <a:rPr b="0" lang="en-US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Rectangle 1046"/>
          <p:cNvSpPr/>
          <p:nvPr/>
        </p:nvSpPr>
        <p:spPr>
          <a:xfrm>
            <a:off x="0" y="6578640"/>
            <a:ext cx="9144000" cy="3049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Rectangle 8"/>
          <p:cNvSpPr/>
          <p:nvPr/>
        </p:nvSpPr>
        <p:spPr>
          <a:xfrm>
            <a:off x="0" y="0"/>
            <a:ext cx="9313920" cy="8301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1" name="Picture 8" descr=""/>
          <p:cNvPicPr/>
          <p:nvPr/>
        </p:nvPicPr>
        <p:blipFill>
          <a:blip r:embed="rId2"/>
          <a:srcRect l="0" t="0" r="0" b="20622"/>
          <a:stretch/>
        </p:blipFill>
        <p:spPr>
          <a:xfrm>
            <a:off x="-227160" y="-19080"/>
            <a:ext cx="1089000" cy="8510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ftr" idx="1"/>
          </p:nvPr>
        </p:nvSpPr>
        <p:spPr>
          <a:xfrm>
            <a:off x="12600" y="6590880"/>
            <a:ext cx="5562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azione test ammissione facoltà architettura e design a.a.06707presentazione test di ammissione alle facol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à di architettura – a.a.2005/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ldNum" idx="2"/>
          </p:nvPr>
        </p:nvSpPr>
        <p:spPr>
          <a:xfrm>
            <a:off x="6972120" y="6400800"/>
            <a:ext cx="19047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6B78D-29FA-4D76-ADDF-402E692221E4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046"/>
          <p:cNvSpPr/>
          <p:nvPr/>
        </p:nvSpPr>
        <p:spPr>
          <a:xfrm>
            <a:off x="0" y="6578640"/>
            <a:ext cx="9144000" cy="3049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Rectangle 8"/>
          <p:cNvSpPr/>
          <p:nvPr/>
        </p:nvSpPr>
        <p:spPr>
          <a:xfrm>
            <a:off x="0" y="0"/>
            <a:ext cx="9313920" cy="8301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82" name="Picture 8" descr=""/>
          <p:cNvPicPr/>
          <p:nvPr/>
        </p:nvPicPr>
        <p:blipFill>
          <a:blip r:embed="rId2"/>
          <a:srcRect l="0" t="0" r="0" b="20622"/>
          <a:stretch/>
        </p:blipFill>
        <p:spPr>
          <a:xfrm>
            <a:off x="-227160" y="-19080"/>
            <a:ext cx="1089000" cy="85104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ftr" idx="3"/>
          </p:nvPr>
        </p:nvSpPr>
        <p:spPr>
          <a:xfrm>
            <a:off x="12600" y="6590880"/>
            <a:ext cx="5562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azione test ammissione facoltà architettura e design a.a.06707presentazione test di ammissione alle facol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à di architettura – a.a.2005/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ldNum" idx="4"/>
          </p:nvPr>
        </p:nvSpPr>
        <p:spPr>
          <a:xfrm>
            <a:off x="6972120" y="6400800"/>
            <a:ext cx="19047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F040C-231E-4AA2-A722-618F4EB7C6E6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1046"/>
          <p:cNvSpPr/>
          <p:nvPr/>
        </p:nvSpPr>
        <p:spPr>
          <a:xfrm>
            <a:off x="0" y="6578640"/>
            <a:ext cx="9144000" cy="3049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Rectangle 8"/>
          <p:cNvSpPr/>
          <p:nvPr/>
        </p:nvSpPr>
        <p:spPr>
          <a:xfrm>
            <a:off x="0" y="0"/>
            <a:ext cx="9313920" cy="8301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23" name="Picture 8" descr=""/>
          <p:cNvPicPr/>
          <p:nvPr/>
        </p:nvPicPr>
        <p:blipFill>
          <a:blip r:embed="rId2"/>
          <a:srcRect l="0" t="0" r="0" b="20622"/>
          <a:stretch/>
        </p:blipFill>
        <p:spPr>
          <a:xfrm>
            <a:off x="-227160" y="-19080"/>
            <a:ext cx="1089000" cy="85104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ftr" idx="5"/>
          </p:nvPr>
        </p:nvSpPr>
        <p:spPr>
          <a:xfrm>
            <a:off x="12600" y="6590880"/>
            <a:ext cx="5562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azione test ammissione facoltà architettura e design a.a.06707presentazione test di ammissione alle facol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à di architettura – a.a.2005/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ldNum" idx="6"/>
          </p:nvPr>
        </p:nvSpPr>
        <p:spPr>
          <a:xfrm>
            <a:off x="6972120" y="6400800"/>
            <a:ext cx="19047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1861C-2C60-4F08-83CF-DB16113F1501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1046"/>
          <p:cNvSpPr/>
          <p:nvPr/>
        </p:nvSpPr>
        <p:spPr>
          <a:xfrm>
            <a:off x="0" y="6578640"/>
            <a:ext cx="9144000" cy="3049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Rectangle 8"/>
          <p:cNvSpPr/>
          <p:nvPr/>
        </p:nvSpPr>
        <p:spPr>
          <a:xfrm>
            <a:off x="0" y="0"/>
            <a:ext cx="9313920" cy="8301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4" name="Picture 8" descr=""/>
          <p:cNvPicPr/>
          <p:nvPr/>
        </p:nvPicPr>
        <p:blipFill>
          <a:blip r:embed="rId2"/>
          <a:srcRect l="0" t="0" r="0" b="20622"/>
          <a:stretch/>
        </p:blipFill>
        <p:spPr>
          <a:xfrm>
            <a:off x="-227160" y="-19080"/>
            <a:ext cx="1089000" cy="85104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ftr" idx="7"/>
          </p:nvPr>
        </p:nvSpPr>
        <p:spPr>
          <a:xfrm>
            <a:off x="12600" y="6590880"/>
            <a:ext cx="5562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azione test ammissione facoltà architettura e design a.a.06707presentazione test di ammissione alle facol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à di architettura – a.a.2005/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ldNum" idx="8"/>
          </p:nvPr>
        </p:nvSpPr>
        <p:spPr>
          <a:xfrm>
            <a:off x="6972120" y="6400800"/>
            <a:ext cx="19047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6983A-B51D-41D0-95B0-7D31435A9D8D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1046"/>
          <p:cNvSpPr/>
          <p:nvPr/>
        </p:nvSpPr>
        <p:spPr>
          <a:xfrm>
            <a:off x="0" y="6578640"/>
            <a:ext cx="9144000" cy="3049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Rectangle 8"/>
          <p:cNvSpPr/>
          <p:nvPr/>
        </p:nvSpPr>
        <p:spPr>
          <a:xfrm>
            <a:off x="0" y="0"/>
            <a:ext cx="9313920" cy="8301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5" name="Picture 8" descr=""/>
          <p:cNvPicPr/>
          <p:nvPr/>
        </p:nvPicPr>
        <p:blipFill>
          <a:blip r:embed="rId2"/>
          <a:srcRect l="0" t="0" r="0" b="20622"/>
          <a:stretch/>
        </p:blipFill>
        <p:spPr>
          <a:xfrm>
            <a:off x="-227160" y="-19080"/>
            <a:ext cx="1089000" cy="851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ftr" idx="9"/>
          </p:nvPr>
        </p:nvSpPr>
        <p:spPr>
          <a:xfrm>
            <a:off x="12600" y="6590880"/>
            <a:ext cx="5562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azione test ammissione facoltà architettura e design a.a.06707presentazione test di ammissione alle facol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à di architettura – a.a.2005/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ldNum" idx="10"/>
          </p:nvPr>
        </p:nvSpPr>
        <p:spPr>
          <a:xfrm>
            <a:off x="6972120" y="6400800"/>
            <a:ext cx="19047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D6117-8F5F-4C23-8925-788814B9D235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1046"/>
          <p:cNvSpPr/>
          <p:nvPr/>
        </p:nvSpPr>
        <p:spPr>
          <a:xfrm>
            <a:off x="0" y="6578640"/>
            <a:ext cx="9144000" cy="3049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Rectangle 8"/>
          <p:cNvSpPr/>
          <p:nvPr/>
        </p:nvSpPr>
        <p:spPr>
          <a:xfrm>
            <a:off x="0" y="0"/>
            <a:ext cx="9313920" cy="8301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46" name="Picture 8" descr=""/>
          <p:cNvPicPr/>
          <p:nvPr/>
        </p:nvPicPr>
        <p:blipFill>
          <a:blip r:embed="rId2"/>
          <a:srcRect l="0" t="0" r="0" b="20622"/>
          <a:stretch/>
        </p:blipFill>
        <p:spPr>
          <a:xfrm>
            <a:off x="-227160" y="-19080"/>
            <a:ext cx="1089000" cy="85104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 type="ftr" idx="11"/>
          </p:nvPr>
        </p:nvSpPr>
        <p:spPr>
          <a:xfrm>
            <a:off x="12600" y="6590880"/>
            <a:ext cx="5562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azione test ammissione facoltà architettura e design a.a.06707presentazione test di ammissione alle facol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à di architettura – a.a.2005/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ldNum" idx="12"/>
          </p:nvPr>
        </p:nvSpPr>
        <p:spPr>
          <a:xfrm>
            <a:off x="6972120" y="6400800"/>
            <a:ext cx="19047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BA679-8B94-49B2-9EE1-02C884178536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1046"/>
          <p:cNvSpPr/>
          <p:nvPr/>
        </p:nvSpPr>
        <p:spPr>
          <a:xfrm>
            <a:off x="0" y="6578640"/>
            <a:ext cx="9144000" cy="3049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8" name="Rectangle 8"/>
          <p:cNvSpPr/>
          <p:nvPr/>
        </p:nvSpPr>
        <p:spPr>
          <a:xfrm>
            <a:off x="0" y="0"/>
            <a:ext cx="9313920" cy="8301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89" name="Picture 8" descr=""/>
          <p:cNvPicPr/>
          <p:nvPr/>
        </p:nvPicPr>
        <p:blipFill>
          <a:blip r:embed="rId2"/>
          <a:srcRect l="0" t="0" r="0" b="20622"/>
          <a:stretch/>
        </p:blipFill>
        <p:spPr>
          <a:xfrm>
            <a:off x="-227160" y="-19080"/>
            <a:ext cx="1089000" cy="851040"/>
          </a:xfrm>
          <a:prstGeom prst="rect">
            <a:avLst/>
          </a:prstGeom>
          <a:ln w="0">
            <a:noFill/>
          </a:ln>
        </p:spPr>
      </p:pic>
      <p:sp>
        <p:nvSpPr>
          <p:cNvPr id="290" name="PlaceHolder 1"/>
          <p:cNvSpPr>
            <a:spLocks noGrp="1"/>
          </p:cNvSpPr>
          <p:nvPr>
            <p:ph type="ftr" idx="13"/>
          </p:nvPr>
        </p:nvSpPr>
        <p:spPr>
          <a:xfrm>
            <a:off x="12600" y="6590880"/>
            <a:ext cx="5562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azione test ammissione facoltà architettura e design a.a.06707presentazione test di ammissione alle facol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à di architettura – a.a.2005/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ldNum" idx="14"/>
          </p:nvPr>
        </p:nvSpPr>
        <p:spPr>
          <a:xfrm>
            <a:off x="6972120" y="6400800"/>
            <a:ext cx="19047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92F83-0D43-499F-8945-3F6AEDCD86C0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1046"/>
          <p:cNvSpPr/>
          <p:nvPr/>
        </p:nvSpPr>
        <p:spPr>
          <a:xfrm>
            <a:off x="0" y="6578640"/>
            <a:ext cx="9144000" cy="3049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Rectangle 8"/>
          <p:cNvSpPr/>
          <p:nvPr/>
        </p:nvSpPr>
        <p:spPr>
          <a:xfrm>
            <a:off x="0" y="0"/>
            <a:ext cx="9313920" cy="8301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30" name="Picture 8" descr=""/>
          <p:cNvPicPr/>
          <p:nvPr/>
        </p:nvPicPr>
        <p:blipFill>
          <a:blip r:embed="rId2"/>
          <a:srcRect l="0" t="0" r="0" b="20622"/>
          <a:stretch/>
        </p:blipFill>
        <p:spPr>
          <a:xfrm>
            <a:off x="-227160" y="-19080"/>
            <a:ext cx="1089000" cy="851040"/>
          </a:xfrm>
          <a:prstGeom prst="rect">
            <a:avLst/>
          </a:prstGeom>
          <a:ln w="0">
            <a:noFill/>
          </a:ln>
        </p:spPr>
      </p:pic>
      <p:sp>
        <p:nvSpPr>
          <p:cNvPr id="331" name="PlaceHolder 1"/>
          <p:cNvSpPr>
            <a:spLocks noGrp="1"/>
          </p:cNvSpPr>
          <p:nvPr>
            <p:ph type="ftr" idx="15"/>
          </p:nvPr>
        </p:nvSpPr>
        <p:spPr>
          <a:xfrm>
            <a:off x="12600" y="6590880"/>
            <a:ext cx="5562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azione test ammissione facoltà architettura e design a.a.06707presentazione test di ammissione alle facol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à di architettura – a.a.2005/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sldNum" idx="16"/>
          </p:nvPr>
        </p:nvSpPr>
        <p:spPr>
          <a:xfrm>
            <a:off x="6972120" y="6400800"/>
            <a:ext cx="19047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B43E8-682C-41FE-9BAE-C1A81D435A04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2"/>
          <p:cNvSpPr/>
          <p:nvPr/>
        </p:nvSpPr>
        <p:spPr>
          <a:xfrm>
            <a:off x="539640" y="1341360"/>
            <a:ext cx="82155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Corso: </a:t>
            </a:r>
            <a:r>
              <a:rPr b="1" lang="it-IT" sz="2000" spc="-1" strike="noStrike">
                <a:solidFill>
                  <a:srgbClr val="ff3300"/>
                </a:solidFill>
                <a:latin typeface="Verdana"/>
              </a:rPr>
              <a:t>Vero/Falso/Verosimile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Docenti: prof.ssa Giovanna Vitale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Semestre: 2°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Lingua di erogazione: italiano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N° max studenti ammessi: 100 Polimi + 20 Erasmus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Modalità d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esame per non frequentanti: SI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2" name="Text Box 3"/>
          <p:cNvSpPr/>
          <p:nvPr/>
        </p:nvSpPr>
        <p:spPr>
          <a:xfrm>
            <a:off x="991440" y="158760"/>
            <a:ext cx="656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3300"/>
                </a:solidFill>
                <a:latin typeface="Arial"/>
              </a:rPr>
              <a:t>Corsi a scelta di Area Tematico-Strumentale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3" name="Text Box 3"/>
          <p:cNvSpPr/>
          <p:nvPr/>
        </p:nvSpPr>
        <p:spPr>
          <a:xfrm>
            <a:off x="4788000" y="6583320"/>
            <a:ext cx="435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Presentazione Corsi a scelta I Livello – 5 settembre '14</a:t>
            </a:r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4" name="Rectangle 2"/>
          <p:cNvSpPr/>
          <p:nvPr/>
        </p:nvSpPr>
        <p:spPr>
          <a:xfrm>
            <a:off x="539640" y="3429000"/>
            <a:ext cx="8280360" cy="40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 caratteristiche di natura comunicativa, estetica ed emozionale sono da prescrivere con la stessa attenzione di quelle ingegneristiche e tecniche. Dobbiamo capire che un prodotto o un servizio, per essere credibili e coerenti, devono poggiare su un immaginario reso condivisibile. Perciò cercheremo risposte a questioni, sempre attuali, quali: 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e inventare il “racconto credibile”? Come individuare un canovaccio visivo che contenga gli argomenti forti, veri e vincenti da comunicare? Come individuare la trama narrativa giusta da mostrare agli osservatori?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Text Box 3"/>
          <p:cNvSpPr/>
          <p:nvPr/>
        </p:nvSpPr>
        <p:spPr>
          <a:xfrm>
            <a:off x="1005480" y="158760"/>
            <a:ext cx="656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Corsi a scelta di Area Tematico-Strumentale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6" name="Text Box 3"/>
          <p:cNvSpPr/>
          <p:nvPr/>
        </p:nvSpPr>
        <p:spPr>
          <a:xfrm>
            <a:off x="4788000" y="6583320"/>
            <a:ext cx="435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Presentazione Corsi a scelta I Livello – 5 settembre '14</a:t>
            </a:r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7" name="Rectangle 2"/>
          <p:cNvSpPr/>
          <p:nvPr/>
        </p:nvSpPr>
        <p:spPr>
          <a:xfrm>
            <a:off x="468360" y="1268280"/>
            <a:ext cx="83516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 renderà visibile una prospettiva storica: dall’antichità, per scoprire insieme da quando l’uomo abbia fatto uso del linguaggio delle immagini per raccontare una storia con immediatezza a un pubblico il più possibile vasto, attraverseremo i secoli per osservare quali e quante “storie credibili” siano state raccontate con efficacia, dalla “Donazione di Costantino” ai “luoghi leggendari” e ai “mondi immaginari”, fino ai giorni nostri per smontare e comprendere le operazioni narrative messe in campo dalle marche con la comunicazione strategica che completa ed esalta le azioni di </a:t>
            </a:r>
            <a:r>
              <a:rPr b="0" i="1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nding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 scopo didattico del corso è duplice: da un lato l’osservazione condivisa della necessità di rappresentare in maniera credibile e, dall’altro, l’allenamento della capacità dei partecipanti di costruire “racconti per immagini” capaci di comunicare con efficacia 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 immediatezza. Lo scopo finale è raggiungere la consapevolezza della complessità sistemica dell’azione di visual design, attraverso il contatto con strategie creative avanzate e vincenti. 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l percorso prevede sia esposizioni </a:t>
            </a:r>
            <a:r>
              <a:rPr b="1" i="1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 cathedra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sia una fase conclusiva con esercitazione pratica.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08T13:48:10Z</dcterms:created>
  <dc:creator>Silvia</dc:creator>
  <dc:description/>
  <dc:language>en-US</dc:language>
  <cp:lastModifiedBy>Giovanna</cp:lastModifiedBy>
  <cp:lastPrinted>2003-05-08T11:08:41Z</cp:lastPrinted>
  <dcterms:modified xsi:type="dcterms:W3CDTF">2014-07-16T16:31:15Z</dcterms:modified>
  <cp:revision>211</cp:revision>
  <dc:subject/>
  <dc:title>Inserire immagine della locandina, possibilmente in trasparenza e aggiungere Facoltà di Architettura Illustrazione prova di ammissione prof. Silvia Piardi (idem Cedolin)</dc:title>
</cp:coreProperties>
</file>